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CEE-3BA9-4335-A8F6-CB4F9CDB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89B-4C30-4730-AE8A-4E211F8A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F9F-419A-4C2F-9D50-6E4454F1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0DC-A054-49C8-9B36-86BEBC86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78D4-AF3F-4EC5-9CD5-09C169F8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278F-3F4A-4411-800F-40294B50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2639-B1BB-4328-9C51-96E7F222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1087-0E01-4855-BD5D-F75E9FCC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4430-0B00-4522-BC84-1CAF4661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FDB3-0028-494F-83BC-C536145C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78FB-A5B2-4FC3-8132-E554533F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1D2-77BC-430E-A3B6-6EE53B2B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6ACF-C253-4C42-91D8-E8078748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F7F0-7DF8-4B11-B298-05FEC8D2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DFB4-C18E-4EC5-9EA0-DB49064B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6137-3C0D-452B-AA28-967E4953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07D6-4CE5-4286-BE5A-FC016A3C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7D7-998A-4E83-B09F-FD7EC9F4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B07-C3FE-4554-BA3F-5F7FBF65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48E-2F62-4238-9D9F-B4ECD5AE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05B-B0C0-4D95-A013-8418ACB2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7C5-2E31-4D82-9A9B-66E059B0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0A8E-D4C5-4907-8415-CED9E8A7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029-1F42-42E2-8377-ADCDEFBA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F6BB-8E30-41E7-918A-FE7A41BE61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476B-3701-466C-AE9F-02FE029C61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ulthood(200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O. To understand how black people are represented in the 2006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6048720" cy="4000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164360" y="256536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this image change your view of hi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tch the fil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take notes whilst watching the fil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how different groups of people are being represented in particular black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y been put into the mediated stereotyp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think this is a true reflection of black people at th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ories could we app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lso consider mise-en-sce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al Expressions/body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se things as a whole contribute to the representation of black culture within the fil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presentation Babyl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the different representations you saw within the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3068640"/>
            <a:ext cx="4249800" cy="2448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830760"/>
            <a:ext cx="29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s in KiDult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have we learn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representations you sa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theory you could app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the overall representation of black people in the film w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8:40:40Z</dcterms:created>
  <dc:creator>martinaos</dc:creator>
  <dc:description/>
  <dc:language>en-US</dc:language>
  <cp:lastModifiedBy>martinaos</cp:lastModifiedBy>
  <dcterms:modified xsi:type="dcterms:W3CDTF">2010-10-22T07:50:46Z</dcterms:modified>
  <cp:revision>6</cp:revision>
  <dc:subject/>
  <dc:title>Babylon (1980)</dc:title>
</cp:coreProperties>
</file>